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2CD-B2B5-4071-9C75-51788225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7C4-2473-4874-ACB8-4AF1B59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4FD-658C-4A31-B76A-81C80FE6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A3C-22C5-4796-B55B-5E4DF6D8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937-9745-472E-B950-E406BA75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7AF-B9EE-441A-BF1D-9461FFD1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588-1590-462A-A627-54D9BC5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2AB-F375-4AC2-A837-7C5AE94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8FF-4B5C-43D1-9BA2-A18F080A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E7B-1F0B-417E-8D0D-A88AE0A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90E-FEF4-4DFE-91BA-C027E717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C31-0385-4CCF-BDB4-E06BEBB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1E8-94F2-4EC5-BD3B-164D76022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1a3</cp:lastModifiedBy>
  <dcterms:modified xsi:type="dcterms:W3CDTF">2012-06-19T10:46:54Z</dcterms:modified>
  <cp:revision>32</cp:revision>
  <dc:subject/>
  <dc:title>SALARIUL</dc:title>
</cp:coreProperties>
</file>